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F45-5B02-49C2-B6C0-6F721C9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344-6EA4-4B97-89FA-743867E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90B-4BB9-4750-9A81-416ADA2E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2F5-D5AD-461E-A18B-206995B4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56267-0AA6-4A8E-A17A-F31F8BF8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804DE-8A84-4201-92E7-AF93EB6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4C93-ED03-447C-A75C-1DFC7FE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CDDB-7B00-4E8C-8046-BBC3AF0D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71C3E-85A8-4E58-A381-CA2448C3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D003-5060-4A24-824C-FF659D1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DC16A-FE27-44D7-9FE2-36B8513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B98-1DC0-460E-9F0D-B9E6F45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69BE3-1208-46B5-B3CD-6E1551B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1D518-F56B-41B2-A01C-BD30E99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B97E8-D5FE-4ACB-AA83-DCFDC1A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F6245-90CB-4381-8AE5-A23EBD20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34FD5-0739-4627-8C96-2B723D49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45F-17C4-4353-9548-1367CC5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D7A-5292-4E20-B893-DECE739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E58-3BE5-4CAA-A191-6B40943F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4F2-6409-4736-BEDB-D6CA6B4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98C-5472-49EE-AE8D-8A68ECD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86B-1595-4C6A-B3B9-5942CEA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15E-575A-4B7C-A6A5-7CC5EE1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EAD-60B9-46F1-B94E-2FB080EE7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809-7F41-4AED-A09C-1F1183D36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slandeventphotos.com/the%2520kiss.jpg&amp;imgrefurl=http://www.islandeventphotos.com/thekiss1.htm&amp;h=543&amp;w=600&amp;sz=43&amp;hl=en&amp;start=42&amp;tbnid=gcL5UxQxVfU6VM:&amp;tbnh=122&amp;tbnw=135&amp;prev=/images%3Fq%3Da%2Bkiss%26start%3D40%26ndsp%3D20%26svnum%3D10%26hl%3Den%26lr%3D%26ie%3DUTF-8%26oe%3DISO-8859-1%26safe%3Doff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ur.news1.yimg.com/eur.yimg.com/xp/afpji/20060712/060712185038.792u0mml0_huda-ghalya-crying-next-to-the-body-of-her-father-b.jpg&amp;imgrefurl=http://uk.news.yahoo.com/12072006/323/photo/huda-ghalya-crying-next-body-father-killed-shell-beach.html&amp;h=351&amp;w=512&amp;sz=87&amp;hl=en&amp;start=29&amp;tbnid=XPBdy7z_Z-XZIM:&amp;tbnh=90&amp;tbnw=131&amp;prev=/images%3Fq%3Dcrying%26start%3D20%26ndsp%3D20%26svnum%3D10%26hl%3Den%26lr%3D%26ie%3DUTF-8%26oe%3DISO-8859-1%26safe%3Doff%26sa%3D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anheller.com/images/Asia/Japan/Tokyo/RoyalPalaceGardens/woman-looking-bw.jpg&amp;imgrefurl=http://www.danheller.com/tokyo-bw.html&amp;h=183&amp;w=275&amp;sz=37&amp;hl=en&amp;start=61&amp;tbnid=QGY3XbplqQVnWM:&amp;tbnh=76&amp;tbnw=114&amp;prev=/images%3Fq%3Dwoman%2Blooking%26start%3D60%26ndsp%3D20%26svnum%3D10%26hl%3Den%26lr%3D%26ie%3DUTF-8%26oe%3DISO-8859-1%26safe%3Doff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evanescencewebsite.com/FAQ/AngelOfGrief/Alex/Angel%2520Of%2520Grief%25201.JPG&amp;imgrefurl=http://www.evanescencewebsite.com/FAQeng.htm&amp;h=600&amp;w=800&amp;sz=84&amp;hl=en&amp;start=10&amp;tbnid=-VyNbdaNmnI7zM:&amp;tbnh=107&amp;tbnw=143&amp;prev=/images%3Fq%3Dgrief%26svnum%3D10%26hl%3Den%26lr%3D%26ie%3DUTF-8%26oe%3DISO-8859-1%26safe%3Dof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1.dshs.wa.gov/graphics/adsa/ddd/eligible.gif&amp;imgrefurl=http://www1.dshs.wa.gov/ddd/eligible.shtml&amp;h=187&amp;w=205&amp;sz=27&amp;hl=en&amp;start=31&amp;tbnid=pZlZkRcJO_TT9M:&amp;tbnh=96&amp;tbnw=105&amp;prev=/images%3Fq%3Dwoman%2Bhelping%26start%3D20%26ndsp%3D20%26svnum%3D10%26hl%3Den%26lr%3D%26ie%3DUTF-8%26oe%3DISO-8859-1%26safe%3Doff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martinshousing.org.uk/images/winter_man_bench.jpg&amp;imgrefurl=http://www.stmartinshousing.org.uk/how_help.htm&amp;h=148&amp;w=274&amp;sz=13&amp;hl=en&amp;start=4&amp;tbnid=Ivr-M3x2GqO5HM:&amp;tbnh=61&amp;tbnw=113&amp;prev=/images%3Fq%3Dhomeless%2Bman%2Bon%2Bbench%26svnum%3D10%26hl%3Den%26lr%3D%26ie%3DUTF-8%26oe%3DISO-8859-1%26safe%3Doff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clipartspace.com/clipart/hearts/heart7.jpg&amp;imgrefurl=http://www.clipartspace.com/heart-clipart.htm&amp;h=331&amp;w=325&amp;sz=23&amp;hl=en&amp;start=2&amp;tbnid=Jz4SLzaS50rnyM:&amp;tbnh=119&amp;tbnw=117&amp;prev=/images%3Fq%3Dheart%26svnum%3D10%26hl%3Den%26lr%3D%26ie%3DUTF-8%26oe%3DISO-8859-1%26safe%3Doff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angelin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zie Kohlhar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 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gende était dans les Étais-Unis, il semblera comme Romeo et Juli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ais venant de Québec, l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gende a culture particul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excite encore aujourd’hui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ient en l’amour et que es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èrent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nocence de Amour Nouvea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Gabriel eu le amour uniqu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Déchiré Sépar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s les Anglais sont arriv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s adieu, sans un sour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se peut que la perte de l’amour tue l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âme d’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ge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133720"/>
            <a:ext cx="46483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èle Amou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s allions affaire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yez-vous que il y ayez seulement un amour vrai pour chaque person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-il vrai que il soit mieu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á aimé et perdu que n’aimé jamias du tou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a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n’affai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 jamias son amour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ors pentant plus de vingt ans, elle a reche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 ton amant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12408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est important que v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prouviez la perte de 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le chagrin immense dans la chan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096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ce Nouveau et un Autre Espoi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 . .      Tu 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cus dans le seul désir de soulager et de guérir ceux qui soufraient plus que toi-mêm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insi que le trés long voyag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346480"/>
            <a:ext cx="3809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Éphémère Tem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ur pouvoir encore trouver la force de dire merci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133720"/>
            <a:ext cx="5029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Gabriel trouvaient l’autre, leur amou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tait plus fort parce que le amour pousser avec tem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219320"/>
            <a:ext cx="3895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02:10Z</dcterms:created>
  <dc:creator>Charlie Kohlhardt </dc:creator>
  <dc:description/>
  <dc:language>en-US</dc:language>
  <cp:lastModifiedBy>Charlie Kohlhardt </cp:lastModifiedBy>
  <dcterms:modified xsi:type="dcterms:W3CDTF">2007-01-09T00:18:21Z</dcterms:modified>
  <cp:revision>8</cp:revision>
  <dc:subject/>
  <dc:title>Évangeline</dc:title>
</cp:coreProperties>
</file>